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1040"/>
            <a:ext cx="5408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304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5680"/>
            <a:ext cx="29307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32EF-5354-463D-81E8-416D40A1EC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76080" y="4721040"/>
            <a:ext cx="54082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3828960" y="9445680"/>
            <a:ext cx="2930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88BB-98BA-4BF9-9DC9-474823CAD3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1"/>
          <p:cNvSpPr/>
          <p:nvPr/>
        </p:nvSpPr>
        <p:spPr>
          <a:xfrm>
            <a:off x="0" y="9445680"/>
            <a:ext cx="2930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66C-53EA-4BB1-AE76-518873BE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317-09F1-48D7-9BFD-75F728B4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5BA-9DAB-4A31-A2E9-8100E4D8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ED7-9E88-4028-BEAA-3921E5A0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E26-5C60-4C78-804B-1B85D016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A6F-1027-43F3-BC03-D3AB1830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69C-FFE6-40D7-ABD4-00DD9D8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5E3-21AC-4C27-9439-012B3B4A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497-F7AA-40F9-AFF4-5A1751F7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4EE-7134-42BA-B2BA-C66514D6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D6B-B30A-44EF-878D-7B2E7913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E54-6641-421F-BE14-7E3899A8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E943-CDBA-4F9D-9BBA-3FD1EE4083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933480" y="2152800"/>
            <a:ext cx="7375320" cy="29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2" descr=""/>
          <p:cNvPicPr/>
          <p:nvPr/>
        </p:nvPicPr>
        <p:blipFill>
          <a:blip r:embed="rId1"/>
          <a:stretch/>
        </p:blipFill>
        <p:spPr>
          <a:xfrm>
            <a:off x="884160" y="-42840"/>
            <a:ext cx="8382240" cy="147492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3"/>
          <p:cNvSpPr/>
          <p:nvPr/>
        </p:nvSpPr>
        <p:spPr>
          <a:xfrm>
            <a:off x="8643960" y="6613560"/>
            <a:ext cx="500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D1CD-729C-4F4D-B8F0-5B5C89181E68}" type="slidenum">
              <a:rPr b="1" lang="ru-RU" sz="20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1280" y="1500120"/>
          <a:ext cx="8929800" cy="5062680"/>
        </p:xfrm>
        <a:graphic>
          <a:graphicData uri="http://schemas.openxmlformats.org/drawingml/2006/table">
            <a:tbl>
              <a:tblPr/>
              <a:tblGrid>
                <a:gridCol w="4270680"/>
                <a:gridCol w="1493640"/>
                <a:gridCol w="1778040"/>
                <a:gridCol w="1387440"/>
              </a:tblGrid>
              <a:tr h="121608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чник ресурсного обесп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ыс.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ический расход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ыс.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лоне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320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ом числ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769 572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623 82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665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97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97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665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ластной бюдж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463 577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321 6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177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стный 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4 8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2 00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223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бюджетные источ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413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ые источ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 20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 22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901800" y="-225360"/>
            <a:ext cx="824220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9600" y="1049400"/>
          <a:ext cx="8961480" cy="5665680"/>
        </p:xfrm>
        <a:graphic>
          <a:graphicData uri="http://schemas.openxmlformats.org/drawingml/2006/table">
            <a:tbl>
              <a:tblPr/>
              <a:tblGrid>
                <a:gridCol w="7585200"/>
                <a:gridCol w="1376280"/>
              </a:tblGrid>
              <a:tr h="61128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муниципальной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воение средств ,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606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безопасности жизнедеятельности населения и территорий Новооскольского городского окру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образования Новооскольского городского окру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циальная поддержка граждан в Новооскольском городском округ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культуры и искусства Новооскольского городского окру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физической культуры, спорта и молодёжной политики на территории Новооскольского городского окру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доступным и комфортным жильем и  коммунальными услугами жителей Новооскольского городского окру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и развитие транспортной системы и дорожной сети Новооскольского городского окру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экономического потенциала и формирование благоприятного предпринимательского климата в Новооскольском городском округ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современной городской среды на территории Новооскольского городского окру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общественного самоуправления, социальной активности населения в Новооскольском городском округ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54" name="Номер слайда 3"/>
          <p:cNvSpPr/>
          <p:nvPr/>
        </p:nvSpPr>
        <p:spPr>
          <a:xfrm>
            <a:off x="8778960" y="8109000"/>
            <a:ext cx="357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C414-F592-41A5-9445-EC788AEBB568}" type="slidenum">
              <a:rPr b="1" lang="ru-RU" sz="20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1"/>
          <a:stretch/>
        </p:blipFill>
        <p:spPr>
          <a:xfrm>
            <a:off x="920880" y="-55440"/>
            <a:ext cx="824220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0" y="684360"/>
          <a:ext cx="9144000" cy="6224400"/>
        </p:xfrm>
        <a:graphic>
          <a:graphicData uri="http://schemas.openxmlformats.org/drawingml/2006/table">
            <a:tbl>
              <a:tblPr/>
              <a:tblGrid>
                <a:gridCol w="396720"/>
                <a:gridCol w="6262920"/>
                <a:gridCol w="1008000"/>
                <a:gridCol w="1476360"/>
              </a:tblGrid>
              <a:tr h="6476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вая оце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-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в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 оценке эффекти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/>
                    </a:solidFill>
                  </a:tcPr>
                </a:tc>
              </a:tr>
              <a:tr h="52524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«Обеспечение безопасности жизнедеятельности населения и территорий Новооскольского городского округа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31608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«Развитие образования Новооскольского городского округа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«Социальная поддержка граждан в Новооскольском городском округе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52524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«Развитие культуры и искусства Новооскольского городского округа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«Развитие физической культуры, спорта и молодёжной политики на территории Новооскольского городского округа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78912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«Обеспечение доступным и комфортным жильем и  коммунальными услугами жителей Новооскольского городского округа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«Совершенствование и развитие транспортной системы и дорожной сети Новооскольского городского округа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79056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«Развитие экономического потенциала и формирование благоприятного предпринимательского климата в Новооскольском городском округе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24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Формирование современной городской среды на территории Новооскольского городского окру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525600"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39639d"/>
                      </a:solidFill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  <a:ea typeface="Calibri"/>
                        </a:rPr>
                        <a:t>«Развитие общественного самоуправления, социальной активности населения в Новооскольском городском округе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ффектив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Номер слайда 3"/>
          <p:cNvSpPr/>
          <p:nvPr/>
        </p:nvSpPr>
        <p:spPr>
          <a:xfrm>
            <a:off x="8643960" y="8037360"/>
            <a:ext cx="50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4F45-C875-4980-873B-D65558C9BD84}" type="slidenum">
              <a:rPr b="1" lang="ru-RU" sz="20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Светлана Трапезникова</cp:lastModifiedBy>
  <cp:lastPrinted>2024-07-10T11:48:37Z</cp:lastPrinted>
  <dcterms:modified xsi:type="dcterms:W3CDTF">2024-07-10T11:48:40Z</dcterms:modified>
  <cp:revision>4469</cp:revision>
  <dc:subject/>
  <dc:title>Слайд 1</dc:title>
</cp:coreProperties>
</file>